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67C-5AEF-45E4-8CA0-693E9460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B75C-A7D9-4172-B201-3DCF2503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BBE-F1C7-4244-8EB5-18D61604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DDCF-5404-451C-B924-16E6DBD4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22CE-0A53-4817-984F-022E5F97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F8A6-0518-4958-8E04-42F420D6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4EF8-D2A1-4126-9145-5E51040B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6DAE-9AB4-45D8-8CDB-DFA503A8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6EFC-2F21-4F6B-9352-4BC413DD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53D1-98A4-4B81-BEA3-DCEAF8B8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775A-412D-47C2-BFDC-9B8AABF4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2B9E-265A-44FF-88D4-FA729209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815C-D5E2-454A-B892-69C88B46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FF2F-926C-42F9-BB9D-9B23A734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6184-E3A5-463D-9659-07996759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3DB8-392B-448A-AA37-556AE6F7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7669-E2B5-47E1-837D-9FCC1843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E5DA-E07A-47DD-94F0-D0AD7DF2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CCA-7108-4399-BC18-57645531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C92-ED82-4DA7-B49D-B5E6C42D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56F6-837E-449B-A0EF-DDB84975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FBF-555A-4CB2-BB0E-59A351FA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A5C-8DA2-42C5-8EE5-DDF72991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962-6576-4B78-87DA-CA575FF4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F0AF-4AB7-466F-9AC4-18F51B7236D7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861C-E69C-4FBC-8C3E-0820C3697DDA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УСОШ № 1018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ccecff"/>
                </a:solidFill>
                <a:latin typeface="Tahoma"/>
              </a:rPr>
              <a:t>Проектно-исследовательская работа по теме:</a:t>
            </a:r>
            <a:br>
              <a:rPr sz="3200"/>
            </a:b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«Оценка влияния эффективности ухода за  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  зубами  и условий  питания  на частоту  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                     заболеваемости   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кариесом среди  учащихся 4 «Б» класса»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3600" spc="-1" strike="noStrike">
                <a:solidFill>
                  <a:srgbClr val="ccecff"/>
                </a:solidFill>
                <a:latin typeface="Tahoma"/>
              </a:rPr>
              <a:t>Латариа Георгий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Tahoma"/>
              </a:rPr>
              <a:t>                    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Tahoma"/>
              </a:rPr>
              <a:t>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020000" y="4797360"/>
            <a:ext cx="172404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5640" y="836640"/>
            <a:ext cx="777708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равнительный анализ зависимости ухода за зубами от       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заболеваемости кариесом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94920" y="2819160"/>
            <a:ext cx="7086600" cy="3352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826920" y="2852640"/>
          <a:ext cx="7848720" cy="352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852640"/>
                    <a:ext cx="78487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ы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авнительный анализ частоты ухода за зубами выявил, что девочки чистят зубы 2 раза в день в 80% случаев, в то время как мальчики всего в 40%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поражения кариесом верхних и нижних зубов выявил, что верхние зубы поражаются на 30% чаще нижних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авнение качества ухода за зубами выявило, что чаще всего кариес встречается у тех, кто чистит зубы иногда(37%).У тех, кто чистит зубы 2 раза в день и вечером кариес встречается в 18%, а у тех, кто только утром- в 27%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ила ухода за зуба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38894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убы надо чистить не менее двух раз в день: утром после завтрака, вечером — после ужина, перед сном. Продолжительность чистки зубов 2-3 минуты. На каждые 2 зуба выполняют по 10 движе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убная щетка — предмет индивидуального пользования, она должна храниться в стакане головкой вверх. Зубную щетку следует менять каждые 3 месяц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2160720" cy="1675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724360" y="4292640"/>
            <a:ext cx="216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1219320"/>
            <a:ext cx="7086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кие бывают зуб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185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троение зуб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Строение зуба"/>
          <p:cNvPicPr/>
          <p:nvPr/>
        </p:nvPicPr>
        <p:blipFill>
          <a:blip r:embed="rId1"/>
          <a:stretch/>
        </p:blipFill>
        <p:spPr>
          <a:xfrm>
            <a:off x="1763640" y="1844640"/>
            <a:ext cx="5472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5280" y="1218960"/>
            <a:ext cx="478944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то лечит зуб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14720" y="1773360"/>
            <a:ext cx="39049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Терапевт-стоматолог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лечит кариес, пульп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ародонтолог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лечит заболевания пародон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ртодон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справляет нарушения прикус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Хирург-стоматолог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лает  хирургические опер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3263760" cy="33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46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рие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5040360" cy="3025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12040" y="2819160"/>
            <a:ext cx="69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42472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Цель и задачи исследования:</a:t>
            </a:r>
            <a:br>
              <a:rPr sz="36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Цел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проанализировать ежедневный уход за зубами и условия питания с заболеваемостью кариесом среди учеников 4 класса «Б»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2819160"/>
            <a:ext cx="842508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следовать ежедневный уход за зубами у учеников 4 класса «Б» с помощью анкетир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вить наличие кариеса  у учеников в групп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сти сравнительный анализ зависимости ухода за зубами и употребления сладкого от заболеваемости кариес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анализировать  частоту поражения кариесом верхних и нижних зуб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авнить результаты ухода за зубами у мальчиков и девоче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920" y="1219320"/>
            <a:ext cx="68421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ценка ежедневного ухода за зубами учеников 4 класса "Б"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82640" y="2814480"/>
          <a:ext cx="758988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2814480"/>
                    <a:ext cx="758988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893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авнительный анализ ежедневного ухода за зубами у мальчиков и девочек 4 "Б"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42920" y="2421000"/>
          <a:ext cx="7338960" cy="37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421000"/>
                    <a:ext cx="733896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121932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нализ поражения верхних 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нижних зубов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26920" y="2276640"/>
          <a:ext cx="8137800" cy="38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813780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zuku13</cp:lastModifiedBy>
  <dcterms:modified xsi:type="dcterms:W3CDTF">2010-09-25T11:05:06Z</dcterms:modified>
  <cp:revision>64</cp:revision>
  <dc:subject/>
  <dc:title>PowerPoint Presentation</dc:title>
</cp:coreProperties>
</file>